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42.jpeg" ContentType="image/jpeg"/>
  <Override PartName="/ppt/media/image23.pct" ContentType="image/x-pict"/>
  <Override PartName="/ppt/media/image26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2.pct" ContentType="image/x-pict"/>
  <Override PartName="/ppt/media/image14.png" ContentType="image/png"/>
  <Override PartName="/ppt/media/image10.jpeg" ContentType="image/jpeg"/>
  <Override PartName="/ppt/media/image1.pct" ContentType="image/x-pict"/>
  <Override PartName="/ppt/media/image4.png" ContentType="image/png"/>
  <Override PartName="/ppt/media/image31.pct" ContentType="image/x-pict"/>
  <Override PartName="/ppt/media/image34.png" ContentType="image/png"/>
  <Override PartName="/ppt/media/image27.png" ContentType="image/png"/>
  <Override PartName="/ppt/media/image32.png" ContentType="image/png"/>
  <Override PartName="/ppt/media/image9.pct" ContentType="image/x-pict"/>
  <Override PartName="/ppt/media/image11.png" ContentType="image/png"/>
  <Override PartName="/ppt/media/image38.pct" ContentType="image/x-pict"/>
  <Override PartName="/ppt/media/image40.png" ContentType="image/pn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44.pct" ContentType="image/x-pict"/>
  <Override PartName="/ppt/media/image45.jpeg" ContentType="image/jpeg"/>
  <Override PartName="/ppt/media/image50.jpeg" ContentType="image/jpeg"/>
  <Override PartName="/ppt/media/image13.png" ContentType="image/png"/>
  <Override PartName="/ppt/media/image51.pct" ContentType="image/x-pict"/>
  <Override PartName="/ppt/media/image28.png" ContentType="image/png"/>
  <Override PartName="/ppt/media/image8.png" ContentType="image/png"/>
  <Override PartName="/ppt/media/image21.pct" ContentType="image/x-pict"/>
  <Override PartName="/ppt/media/image24.png" ContentType="image/png"/>
  <Override PartName="/ppt/media/image39.png" ContentType="image/png"/>
  <Override PartName="/ppt/media/image36.pct" ContentType="image/x-pict"/>
  <Override PartName="/ppt/media/image6.pct" ContentType="image/x-pict"/>
  <Override PartName="/ppt/media/image3.png" ContentType="image/png"/>
  <Override PartName="/ppt/media/image33.png" ContentType="image/png"/>
  <Override PartName="/ppt/media/image30.pct" ContentType="image/x-pict"/>
  <Override PartName="/ppt/media/image2.pct" ContentType="image/x-pict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744-A2BA-4E8A-BD56-780D95AC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050-D4D3-4CDF-82FB-71369448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FAD-FD36-4BDD-BC6D-F5D23E3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D3-7339-4522-9A67-C880F8B2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09E-4618-4E2E-8E0A-336C82B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928-2773-4A30-9945-FC0E20F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706-0CDC-47FC-BC94-4A8C0B6B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7AA-7491-4AA9-A41D-49F4CDC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DE7-7D7C-48E1-BF7B-96F61FC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1BD-F9C6-4267-B5D4-155397C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7A4-48BD-4858-8B49-A14450D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E73-C21F-47D4-BF6C-96CACA9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322-4484-4A9A-A426-E117B7B9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viding First Aid and Handling Emergenc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962520" cy="267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65760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vuls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results when tissue is separated partly or completely from  a person’s bo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usually occur in auto accident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and from animal b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severed part should be sen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with person to hos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ack part in ice or ic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37360" cy="535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943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ul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9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Open W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op the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pressure point - one of a number of points along the main artery supplying blood to an affected li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apply direct pressure to wound or pressure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Protect the wound - cover the wound with a clean clo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Treat for sho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shock - the failure of the cardio- vascular system to keep adequate blood circulation to the vital organs of the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ptoms of shock include confusion, accelerated or slowed pulse rate, trembling, weakness in the arms and legs, pale or clammy skin, pale or bluish lips and fingernails, and enlarged pupi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reat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keep victim lying down, maintain body temperature, elevate feet if possible, and get medical help. 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ive food or drin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Ge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Send someone for help or if you are alone shout for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Leave the victim only after you have performed first aid and feel that you have lessened the risk of further injury or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8"/>
                </a:solidFill>
                <a:latin typeface="Times New Roman"/>
              </a:rPr>
              <a:t>Check - Call -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calling 911, give the follow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Telephon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28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Exact 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Caller’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What happe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Number and condition of vict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What help is being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81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8"/>
                </a:solidFill>
                <a:latin typeface="Times New Roman"/>
              </a:rPr>
              <a:t>!!!Do not hang up first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Blood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Rece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,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,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, B, AB, O  Universal Receiv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                  Universal D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h factor - a protein found in som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1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819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6483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864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956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evere Bur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are superfi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involve top layer of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heal in 5 to 6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example: most sunb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149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8"/>
                </a:solidFill>
                <a:latin typeface="Times New Roman"/>
              </a:rPr>
              <a:t>First Ai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the immediate, temporary care given to a person who has become sick or who has been inju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298600" cy="19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51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322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involves top severa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ill have blisters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ar blot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3 to 4 weeks to h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245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the most serious b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destroys skin, nerv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, fat, and b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appears black or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808200"/>
            <a:ext cx="6705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Severe Bu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se burn with plenty of cool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 clean dry dressing over the burned area to prevent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se area above the level of the heart if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 for sh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ttem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remove clothing that is stuck to the burn or to treat burns where the skin has been burned a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334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oison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occur through swallowing or inhaling a toxic substance, through snakebite, or through contact with a poisonous plant or 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7672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between 1 and 2 million poisonings occur in US each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28600" y="4724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most involve children under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654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174840" cy="394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57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9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riorities in an Emergenc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Check immediate surrou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See if victim is cons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Check 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trol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heck for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end for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gns of oral poison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harp abdominal cra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reme drowsiness followed by loss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vom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hemical odor on the br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hemical burns on the l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open container of a poisonous 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430720" cy="250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Swallowing Poi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poison control center- </a:t>
            </a:r>
            <a:r>
              <a:rPr b="0" lang="en-US" sz="3200" spc="-1" strike="noStrike">
                <a:solidFill>
                  <a:srgbClr val="ff0008"/>
                </a:solidFill>
                <a:latin typeface="Times New Roman"/>
              </a:rPr>
              <a:t>1-800-848-69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00200"/>
            <a:ext cx="9144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ve the following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62320"/>
            <a:ext cx="91440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ge and weight of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name of suspected po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mount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time it was taken, if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reat for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95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etic- an agent that induces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0750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nakebi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sonous ones in 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attlesna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Copperhea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Water moccas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Coral sn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59092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victim to hospital - keep the victim as still and quiet as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Keep the bitten area at or below the level of the he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Call EMS for instru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33520"/>
            <a:ext cx="914400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Do not put ice on bite, the ven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es more damage in a col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om - a poisonous substance secreted by a snake or other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Maintain breathing and preven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avation of the w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move slowly and rest period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78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9080" y="3949560"/>
            <a:ext cx="4444920" cy="2908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800600" y="58680"/>
            <a:ext cx="4343400" cy="3370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91176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2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tact Poiso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8915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765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Poison ivy, poison oak,poison sum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971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irst defense - learn what they look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9144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Causes - rash, blistering, swell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rning, itching, and possible a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86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irst ai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remove contaminat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4572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wash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use Calamine lotion for i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if severe, get medical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14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Chemic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76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ousehold cleaning agents and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sticides are common causes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s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34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should be stored out of reach of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Direct contact with a poison usual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uses a burning of the ski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mbling a sunbu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2880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First aid - remove any contaminat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flood area with water for 15 min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ntact poison control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1-800-848-69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son 3 -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Aid for Choking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cu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thing, and C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k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occurs when a piece of food becomes lodged in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he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windpi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12200" y="4952880"/>
            <a:ext cx="153180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320040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niversal choking sign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both hand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d at the thro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econdary Measur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learn what happened, devise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safety and comfort of victi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maintain body temper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loosen tight clo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8"/>
                </a:solidFill>
                <a:latin typeface="Times New Roman"/>
              </a:rPr>
              <a:t>!!Stay Calm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for Ch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imlich maneu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bdominal th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3623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the application of sudden pressure on the victim’s diaphragm so as to expel the substance blocking the ai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Wrap arms around the victim’s waist.  Place your hand halfway between the lower sternum and the naval with your thumb side of your hand against their abdo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scious victi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rasp your fist with the other hand, and press into the abdomen with quick upward thrusts until the blockage is dislodg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810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* if you are by yourself perform abdominal thrusts on yourself by leaning over the back of a chair or the edge of a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016080" cy="600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3556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king Inf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sciou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Place the infant on a downward angle ov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a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3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sing the heel of your other hand, give fou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blows to the baby’s back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er bla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03848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Turn the infant over.  Press two fingers int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iddle of the baby’s sternum (che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ust), repeat four tim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Alternate administering back blows and che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usts until the object is dislodg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96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iratory Fail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state in which air is unable to reach the lu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524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occur because of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lungs filling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as pois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075040" cy="195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45200" y="1676520"/>
            <a:ext cx="3898800" cy="2517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19520" y="45720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overdose of narco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lectro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rtificial respiration or rescue brea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tilt victim’s head, look, listen,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876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if not breathing, pinch nostril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gether, seal your mouth ove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irs and exhale (2 full breath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5867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keep head tilted - look, listen,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 again, check for carotid pu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if there is a pulse but no breath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inue breaths, one every fiv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s (adults), one every fou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s (children), and one ever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seconds (infa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1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 continue until victim starts breath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medical help arr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rdiopulmonary Resus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ifesaving technique in which a heart that has stopped is forced to pump blood to the body by means of applied pres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8120" y="4043520"/>
            <a:ext cx="37335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diovascular failure - failure of the heart to pump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16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ree steps of CP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r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rc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ypes of open wou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ras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also known as a scr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damages outer layers of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little or no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become infected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caused by scraping or rubb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son 4 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Common Emer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ac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to break a 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14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 1. Try to keep the injured par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moving by immobiliz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41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Use a splint to secure th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jured part to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791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 Seek medical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220840" cy="347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1981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rai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condition caused by a stretching or tearing of the soft tissue bands, or ligaments, that hold bones together at a 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66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.I.C.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67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10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e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6924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int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temporary loss of consciousness brought on by a reduced supply of blood to the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057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Lay person down and elevat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ir feet 8 to 12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Loosen tight 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267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Open ai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29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Sponge face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86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eek help if necess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Bite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 1. Wash area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over it with a clean dr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590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Get the person to a doctor a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038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bie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a viral disease of the nervous system that eventually causes madness and d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81640" cy="2703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5257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 b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6386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e Sting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1. use a flat sharp-edg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 to scrape the stinger away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kin until you pull out the ven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36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Wash area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Watch for allergic re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cts in the E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038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run water in the eye starting at the nose and wor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the object does not come out cover both eyes and seek medical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!!!Do Not rub the eye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1600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4920" y="38098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e s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seblee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Keep person calm and lean hea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pply direct pressure by pressing o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eeding nost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Apply a cold towel to the person’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se and 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lace a piece of cotton or gauz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ween the upper lip and teeth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 the bl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stbi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ndition in which i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ystals form in the spaces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6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skin is yellowish or gray in color and feel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mmy or doug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Aid - 1. Rewarm frozen body part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aking in lukewarm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Place sheets of gauze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rmed fingers and toes and band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4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eek medical help AS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952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ngre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death of tissue in a part of the body. It often requires amputation of the affected p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483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962160" cy="263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125520" cy="4724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3505320"/>
            <a:ext cx="3657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stb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80880" y="4338720"/>
            <a:ext cx="3048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94148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505320" y="838080"/>
            <a:ext cx="3962160" cy="2978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4600" y="4800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ngr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t Cramp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caused by loss of water and salt from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219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igns: muscle cramps, heavy sweat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ache, and dizz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43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Move out of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48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assage the mus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Give sips of water or sports dr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4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nly 4 ounces every 15 minut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029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!!!Do not drink too much at onc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8108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t Stro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life-threatening condition caused by prolonged exposure to extremely high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Prompt action is essentia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819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ove person to sh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Immerse in cold water or place i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s around the neck, in th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in, and under the 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257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Get medical hel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cera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or c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have jagged or smooth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will have bleeding as well 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mage to nerves,blood vessels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ft tiss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may be caused by knif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ken glass, or blunt objec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962520"/>
            <a:ext cx="1676520" cy="127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17268600">
            <a:off x="7554600" y="-163080"/>
            <a:ext cx="7617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72000" cy="34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876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a piercing of the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caused by pin, splinter, o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inted ob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limited external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increased possibility of internal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mage, bleeding, and inf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15200" y="1295280"/>
            <a:ext cx="164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47:58Z</dcterms:created>
  <dc:creator>CCHS</dc:creator>
  <dc:description/>
  <dc:language>en-US</dc:language>
  <cp:lastModifiedBy>Chatham County Schools</cp:lastModifiedBy>
  <dcterms:modified xsi:type="dcterms:W3CDTF">2006-02-06T18:22:46Z</dcterms:modified>
  <cp:revision>47</cp:revision>
  <dc:subject/>
  <dc:title>PowerPoint Presentation</dc:title>
</cp:coreProperties>
</file>